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838-3403-4227-8790-D7D59789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8B7-3D1B-46D1-AD7C-1FB73A0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F96-844D-4359-8160-F1F39783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CE9-2384-4CA8-ACF5-0631D03F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DA2-67E5-477E-AEB7-4572D876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F072-7F03-4946-BD08-02166C2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E22B-D583-4839-824B-3E5EA0A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E98C-F7D2-4ED6-820F-D314395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00F7-F115-40D1-84F5-B540FC10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384-6C66-48C5-B8B8-F7BE274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C149-A67D-47AB-8FD7-227A912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331-9680-472A-BF6F-1D048AE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C381-590B-4E25-996D-F9C6CA3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BD5-BC03-43A3-A311-3105680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5A48-C66D-4ED0-A795-13ABDF8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977F-1A42-4AD9-90F4-7B8E90C5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4560-0E66-4F6B-992C-3E5BB034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72826-CD95-4D38-A361-81494462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AF623-5808-4788-9DB3-66AF087B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6F771-58E1-4F1B-B07E-61DF3FAF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BBEE8-2380-40B6-BE4E-CEA49770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3675F-91F8-49B6-91E4-63D50A5B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4D5-50B2-478C-9D48-7964C66C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F620B-DCF5-4784-AFA7-3602111C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39AD9-F21A-45BB-AC92-24D1269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B2691-A02E-4779-9DD6-BA9A63E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2C613-A209-475F-92B4-F9E3C099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AC30C-CCD0-4BFD-A7FF-DBAEC89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1BA20-C75E-4B25-825B-A2376671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9462C-43F0-4987-8C4A-FB7DE812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F88B-7EF2-4260-A592-5FAB751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8FF7-FA64-410F-8897-22C0070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5033-293D-403F-89C1-6E7E720C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9F9-DDCE-4479-B294-60647DD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6A0C-B4C8-429D-92D1-0777287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0D1F-89ED-4943-B9A9-BFC0CCC3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28CF-AAF4-4854-9038-D9A82320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5773-3BB6-4686-91E5-21CA9BA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D641-EEDA-4333-B45E-2579028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0E85-DF1E-4B8B-AB28-53CCC9B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5EEB-BC5A-41A2-9439-14D8FC9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3BDE-5C97-4117-89D5-5FBC5116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31BF-4151-4E45-873F-9CA4AD31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3F583-3004-43A8-8AA1-7EB6BE30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683-FCFB-431B-A7BE-75F1C3D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42FA7-72BF-4F19-9409-2CB4B10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32A30-AB0F-4E56-8555-1062770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8CBE1-2BB6-48D7-BA5B-B107D9AA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F4B93-D5DF-476E-8371-893B508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AF587-D8F0-4F6D-A98C-7FEF7D2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A12A3-9F74-40B4-B7C7-1E52F30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287FE-BEC0-4206-9312-DD132B0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D7516-FC96-4BCD-96C0-3F55269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D6D03-145D-4737-8748-D06BD56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CDB0C-82CD-4036-BA12-0322EA61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5D9-1B99-470B-A3B8-5FA0A475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B87AB-B8E5-4167-BB21-42EF6CB6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25FA4-9238-4212-935E-FF80289E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AF6AB-2554-45C2-B362-98D82305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B1239-590C-4469-A858-A2B7758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18C63-7739-4AB9-B8E7-EB01A8D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0CAD7-C27D-4923-9ED8-EBA7785C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83E82-D8C5-4603-B8B0-8C34FD7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7D347-9285-4567-BAE0-F6E40F02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F9675-9324-43C1-9661-6062793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8D7D8-19FA-46AB-96D8-8A646DD9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FD2-B838-4CB5-976F-127AA02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C5C3E-99A7-4302-ACEE-AEAEEF7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F6BA2-9D77-4018-8957-DF134DAD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7A353-93CD-46AF-B7B8-627F20A1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1A541-5934-4292-9CCB-FBD37209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FEC20-8F19-4BC5-B27A-F571B292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922E3-483C-4616-A40B-6BFAABB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655F0-0E0A-4055-B113-F5A1D538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D81B0-F593-49DB-ABD7-B1F1E022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A434C-D875-436C-BAA3-4A6C8EA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498B8-FB17-4477-A459-6BAC356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7A1-9B25-4052-8388-B7C176D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B57BD-7BD0-40E6-939F-06311A8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7CE72-D3A1-42C0-82A5-C45085E6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47B38-5D2A-463C-A22F-02B584E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8E449-B0AD-4738-903B-C014D1B1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6C1E1-0E18-41A7-8480-59C7D51B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4E4-0F74-45EF-8813-93D996F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303C-C915-41DC-843D-4B401BF341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70B-CBCC-466B-A443-107CC0EFB8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61F-39C6-4D2A-AF1C-DCFBAF1322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FC3-939A-49C7-9F35-590A092F2E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D46D-623C-416E-AFF3-A6D6AD5F79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37BE-D935-41BB-9744-35351116F5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746E-7C60-4684-9B51-88D5E63960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www.uztest.ru/" TargetMode="External"/><Relationship Id="rId3" Type="http://schemas.openxmlformats.org/officeDocument/2006/relationships/hyperlink" Target="http://www.matform.ru/" TargetMode="External"/><Relationship Id="rId4" Type="http://schemas.openxmlformats.org/officeDocument/2006/relationships/hyperlink" Target="http://www.pm298.ru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71760" y="142920"/>
            <a:ext cx="721512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668c4"/>
                </a:solidFill>
                <a:latin typeface="Century Schoolbook"/>
              </a:rPr>
              <a:t>ТЕМА ИССЛЕДОВАНИЯ:</a:t>
            </a:r>
            <a:br>
              <a:rPr sz="2700"/>
            </a:b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 ФУНКЦИЯ, ОБЛАСТЬ ОПРЕДЕЛЕНИЯ И ОБЛАСТЬ ЗНАЧЕНИЙ ФУНКЦИИ. СВОЙСТВА ФУНКЦИЙ: МОНОТОННОСТЬ, ЧЕТНОСТЬ И НЕЧЕТНОСТЬ, ПЕРИОДИЧНОСТЬ, ОГРАНИЧЕННОСТЬ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5000" y="3571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лышев В., Тарасова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4071960" y="44290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нуфриев Д.-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3286080" y="6143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ыктывкар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2143080" y="357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e39"/>
                </a:solidFill>
                <a:uFillTx/>
                <a:latin typeface="Century Schoolbook"/>
              </a:rPr>
              <a:t>Проблем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214720" y="128592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чего нужны промежутки и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то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\\Oomph\!!!Входни!!!\13.jpeg"/>
          <p:cNvPicPr/>
          <p:nvPr/>
        </p:nvPicPr>
        <p:blipFill>
          <a:blip r:embed="rId1"/>
          <a:stretch/>
        </p:blipFill>
        <p:spPr>
          <a:xfrm>
            <a:off x="3643200" y="2214720"/>
            <a:ext cx="28465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2500200" y="15717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e39"/>
                </a:solidFill>
                <a:latin typeface="Century Schoolbook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928880" y="2500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снить как можно записать область определения и область значения, используя промежутки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3"/>
          <p:cNvSpPr/>
          <p:nvPr/>
        </p:nvSpPr>
        <p:spPr>
          <a:xfrm>
            <a:off x="2000160" y="21420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39"/>
                </a:solidFill>
                <a:latin typeface="Century Schoolbook"/>
              </a:rPr>
              <a:t>Ход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2000160" y="1143000"/>
            <a:ext cx="621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комство с определением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областью определения и областью зна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по учебнику Алгебра 8 класс. Макарычев Ю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3"/>
          <p:cNvSpPr/>
          <p:nvPr/>
        </p:nvSpPr>
        <p:spPr>
          <a:xfrm>
            <a:off x="2143080" y="6429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e39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1857240" y="192888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определения и область значений можно записать в виде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 ; b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∞;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(a;+∞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брать из промежутка 1) или в множестве 2) (кроме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"/>
          <p:cNvSpPr/>
          <p:nvPr/>
        </p:nvSpPr>
        <p:spPr>
          <a:xfrm>
            <a:off x="2000160" y="35712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e39"/>
                </a:solidFill>
                <a:latin typeface="Arial"/>
              </a:rPr>
              <a:t>Используем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2000160" y="1428840"/>
            <a:ext cx="607212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Макарычев Ю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Виленкин А. 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Мордкович А.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1"/>
              </a:rPr>
              <a:t>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2"/>
              </a:rPr>
              <a:t>http://www.uzte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://www.matfo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4"/>
              </a:rPr>
              <a:t>http://www.pm298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47:09Z</dcterms:created>
  <dc:creator>Admin</dc:creator>
  <dc:description/>
  <dc:language>en-US</dc:language>
  <cp:lastModifiedBy>Admin</cp:lastModifiedBy>
  <dcterms:modified xsi:type="dcterms:W3CDTF">2010-05-30T12:05:44Z</dcterms:modified>
  <cp:revision>10</cp:revision>
  <dc:subject/>
  <dc:title>Слайд 1</dc:title>
</cp:coreProperties>
</file>